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utiger LT Std 45 Ligh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C7E6-180F-4B9A-912B-3B609A35DB51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489-53B1-4463-BAFC-80E9F171DA14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F54-CEC9-48B9-B352-05B1456444E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hase 1 In this initiation phase, teachers take time to focus their action learning in the contex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chool or broader initiatives in education, getting clear which issue is to be add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y also enrol colleagues into the program, inducting them into action learning and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earning project, finding resources, scheduling meetings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 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ach teacher takes some time to explore and find the focus of their own acti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ithin the wider work of the group.This involves some reflection and initial 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vestigations, checking out ‘hunches’ about why things are the way they are,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bservation and inquiry.Teachers use colleagues and facilitators as required in this phas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elp them clarify their thinking and to make pl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The group and its individual members have, up to this point, been engaged with larg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intellectual, diagnostic, paper-and-talk activities that have been a preparation for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The remaining period of the program will be occupied with getting it done through rep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cycles of action learning. In reality, there is no such neat split of ‘finding what to do’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doing it’, they are intermixed rather than end-to-e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Phase 4 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is a good idea, halfway through the program or sooner, to review and fine-tun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orkings of the program. Elements such as data-gathering, reflection, journals, meeting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sing critical friends can be evaluated, asking how these contributors to learning might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effective. It may also be invigorating for participants to present their earl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findings to a wider audience of teachers, which is ‘tuned’ to respond with apprec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eedback, questions and ideas for going for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Times New Roman"/>
              </a:rPr>
              <a:t>Phase 5: ‘Going deeper’ - getting more from action learning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eachers who maintain the process seem to reap greater rewards in the second half of a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o nine month program. Knowing the process, teachers want to use it to dig a bit d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to the underlying causes of problems in students’ learning and behaviour.The more m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group also becomes more efficient and productive. Having found their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n the group, people enjoy the discussions, the learning and the camaraderie. It seems that,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ter phases of a program, teachers seek more critical examination of their pro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from their colleagues whereas in the earlier stages, they were more concerned to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ceptance and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s they develop a more reflective approach, some teachers also discover mo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mselves than they expected.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"I didn’t realise how stale I had become in my teaching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boring I had become and how out of touch with the kids I was – I always thought of myself as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innovative teacher the kids liked to have - until I started really looking at my disinterest in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ork once I had got them busy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nfronted by such realisations, teachers are faced with the painful task of adjusting selfperce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nd behaviour. It seems that in this discomfort, the ‘deeper’ work of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arning takes place. Changes to teaching practice are a natural effect of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wareness. Not everyone participating in action learning will seek or experience pro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ersonal renewal, and should not be deemed to have somehow missed the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ever, teachers do commonly report, and with enthusiasm, a renewed interest in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ersonal effective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000000"/>
                </a:solidFill>
                <a:latin typeface="Times New Roman"/>
              </a:rPr>
              <a:t>Phase 6: Reviewing the learning and presenting work t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re is of course no completion of the cycle spiral of action learning. It is continu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ever, a point of conclusion will be chosen for any program to which resources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been allocated.This phase involves drawing overall conclusions from the learning and f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eaningful ways to present the program’s findings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BC8-3476-486A-938F-1A49488ADAD1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CC07-8814-4339-AA42-3FF57CB71DA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1F3-47CC-49B9-B80F-0C3E2E5651B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6E37-2314-4A9B-9AE5-C85E0081E42D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3228-EDEB-44D4-8169-BDDCECBEDD3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377B-8AFC-459D-A53A-B80AEB3A2E3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842-5643-4DC8-B5A8-08EF8A1E29C5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53F-41F6-43A7-9E55-949F35986DCE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FFE3-71BE-420C-8336-584D0FA9188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144E-0312-4895-B558-791D0E83CDF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914-6E78-4325-9D28-D9CD99ACE88B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F3E-7B67-4121-819A-E0E87E0ED709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8AA9-3C87-4B4B-88DD-CF21F7CEB6FF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E040-3C49-4050-9D32-B4F7BACC0BCD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evels of intention, involvement and 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assumes that participants learn from their own experiences, that they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is with others and that they share the knowledge with the wider community in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ive or work. It assumes that each participant brings the intention to learn, to support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others want to find out and to contribute to the community’s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he research is into one’s own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involves research, but not research on other people’s practices.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earning involves research into a teacher’s own work practices </a:t>
            </a:r>
            <a:r>
              <a:rPr b="0" i="1" lang="en-AU" sz="1200" spc="-1" strike="noStrike">
                <a:solidFill>
                  <a:srgbClr val="000000"/>
                </a:solidFill>
                <a:latin typeface="Times New Roman"/>
              </a:rPr>
              <a:t>with and for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Learning is cradled in the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ction learning is situated in the task of teaching. Improvement is achieved by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reflecting on their work and asking, with the help of colleagues, in what ways they might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it more effectively. Unlike many other forms of professional learning, action learning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eachers’ actual experiences and the learning is directed by th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4A0A-B1F3-43F2-83C6-2FF49CCC6848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2C6B-F7D7-4E1B-AC3D-0EA9C229E4C9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70AD-1DB6-4F61-B602-F3777A55F74D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BD0D-F22A-4670-ACF4-F07C17BEF350}" type="slidenum">
              <a:rPr b="0" lang="en-US" sz="1200" spc="-1" strike="noStrike">
                <a:solidFill>
                  <a:srgbClr val="000000"/>
                </a:solidFill>
                <a:latin typeface="Frutiger LT Std 45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4240"/>
            <a:ext cx="264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424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4240"/>
            <a:ext cx="8229600" cy="19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Frutiger LT Std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Frutiger LT Std 45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utiger LT Std 45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596360" y="5789520"/>
            <a:ext cx="558720" cy="84636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28600" y="5791320"/>
            <a:ext cx="73152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4" name="Picture 6" descr="Small Pic 4"/>
          <p:cNvPicPr/>
          <p:nvPr/>
        </p:nvPicPr>
        <p:blipFill>
          <a:blip r:embed="rId2"/>
          <a:stretch/>
        </p:blipFill>
        <p:spPr>
          <a:xfrm>
            <a:off x="8244000" y="5773680"/>
            <a:ext cx="689040" cy="86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295280"/>
            <a:ext cx="76964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55 Roman"/>
              </a:rPr>
              <a:t>Collaborative Action Learning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Frutiger LT Std 55 Roman"/>
              </a:rPr>
              <a:t>Strengthening understandings of the action learning model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4038480"/>
            <a:ext cx="990720" cy="1600200"/>
          </a:xfrm>
          <a:prstGeom prst="rect">
            <a:avLst/>
          </a:prstGeom>
          <a:solidFill>
            <a:srgbClr val="80008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28600" y="5791320"/>
            <a:ext cx="8686800" cy="838080"/>
          </a:xfrm>
          <a:prstGeom prst="rect">
            <a:avLst/>
          </a:pr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Department of Education &amp; Training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SW Public Schools – Leading the Way     www.det.nsw.edu.au</a:t>
            </a:r>
            <a:endParaRPr b="0" lang="en-US" sz="9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51" name="Picture 6" descr="Front pic 2"/>
          <p:cNvPicPr/>
          <p:nvPr/>
        </p:nvPicPr>
        <p:blipFill>
          <a:blip r:embed="rId1"/>
          <a:stretch/>
        </p:blipFill>
        <p:spPr>
          <a:xfrm>
            <a:off x="1332000" y="4043520"/>
            <a:ext cx="3024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656160" cy="50720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4786200" y="85716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  <a:ea typeface="Arial"/>
              </a:rPr>
              <a:t>Components of an Action Learning Project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our contex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the data telling u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targets do we want to achiev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nformation/support can we acces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is our learning question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methodology will we us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data will we collec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ill we evaluate our projec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ill we share our findings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utiger LT Std 45 Light"/>
              </a:rPr>
              <a:t>Act</a:t>
            </a:r>
            <a:endParaRPr b="0" lang="en-US" sz="6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 word on data collection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2227680" y="1643040"/>
            <a:ext cx="4510800" cy="4053600"/>
            <a:chOff x="2227680" y="1643040"/>
            <a:chExt cx="4510800" cy="4053600"/>
          </a:xfrm>
        </p:grpSpPr>
        <p:sp>
          <p:nvSpPr>
            <p:cNvPr id="76" name="AutoShape 5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olidated conclusion</a:t>
              </a: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7" name="AutoShape 6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8" name="AutoShape 7"/>
            <p:cNvSpPr/>
            <p:nvPr/>
          </p:nvSpPr>
          <p:spPr>
            <a:xfrm flipH="1">
              <a:off x="2286000" y="1785960"/>
              <a:ext cx="4452480" cy="380952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 rot="1881600">
              <a:off x="4761360" y="2010240"/>
              <a:ext cx="153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ource 2</a:t>
              </a:r>
              <a:endParaRPr b="0" lang="en-US" sz="16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80" name="Text Box 9"/>
            <p:cNvSpPr/>
            <p:nvPr/>
          </p:nvSpPr>
          <p:spPr>
            <a:xfrm rot="16520400">
              <a:off x="1745640" y="3349440"/>
              <a:ext cx="153252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Source 1</a:t>
              </a:r>
              <a:endParaRPr b="0" lang="en-US" sz="16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  <p:sp>
          <p:nvSpPr>
            <p:cNvPr id="81" name="Text Box 10"/>
            <p:cNvSpPr/>
            <p:nvPr/>
          </p:nvSpPr>
          <p:spPr>
            <a:xfrm rot="19658400">
              <a:off x="4658040" y="4817520"/>
              <a:ext cx="170316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71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 Source 3</a:t>
              </a:r>
              <a:endParaRPr b="0" lang="en-US" sz="1800" spc="-1" strike="noStrike">
                <a:solidFill>
                  <a:srgbClr val="000000"/>
                </a:solidFill>
                <a:latin typeface="Frutiger LT Std 45 Light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Observe</a:t>
            </a:r>
            <a:endParaRPr b="0" lang="en-US" sz="60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flect</a:t>
            </a:r>
            <a:endParaRPr b="0" lang="en-US" sz="60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Quality teaching and protocols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rotocols are a powerful tool to assist in evaluating programs, classroom practice and assessment task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rotocols enhance opportunities to discuss the QT elements in a structured, respectful environment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 NSN protocols share theoretical origins with the NSW Quality Teaching model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nnecting with Quality Teach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do I want the students to learn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y does it matter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at am I going to get the students to do/produce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Frutiger LT Std 45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How well do I expect them to do it?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Th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Effective action learning should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flect the context of the school/year/Stage/ class involved in the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spond to relevant data and syllabus outcom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collaboratively developed by the people involved in the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manageable in terms of cohort, targets, methodology and data collecti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Frutiger LT Std 45 Light"/>
              </a:rPr>
              <a:t>Advice for using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start with a small group and gradually widen the sphere of influence – reporting is critical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give all participants an equal say in decision mak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keep the project as simple as possibl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don’t overestimate what can be achieved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have a detailed plan and timelin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seek advice and information from a variety of sourc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Session outcomes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Participants will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view the purpose and nature of collaborative action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Understand Action Learning in the context of the project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Frutiger LT Std 45 Light"/>
              </a:rPr>
              <a:t>Advice for using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data should be collected and analysed at all stag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make time for team building and teamwork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grow with the project as people’s data and analysis skills develop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there are no quick fixes or guarantee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be prepared to learn from mistakes and accept this as part of the project – this applies to </a:t>
            </a:r>
            <a:r>
              <a:rPr b="1" lang="en-AU" sz="2800" spc="-1" strike="noStrike">
                <a:solidFill>
                  <a:srgbClr val="000000"/>
                </a:solidFill>
                <a:latin typeface="Frutiger LT Std 45 Light"/>
              </a:rPr>
              <a:t>everyone </a:t>
            </a: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involved in the learning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Collaborative action learning is a proces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which can be used by educators to reflect 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ir beliefs and improve their practices,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rough implementing a plan of action i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collaboration with others in the workplace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394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LT Std 45 Light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DET &amp; ACER)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Participants in action learning work together to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dentify issues and develop processes for improvement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n education, action learning is a way teachers can improve both their own practice and their students’ learning outcomes.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The central goal of action learning is positive educational change.</a:t>
            </a:r>
            <a:r>
              <a:rPr b="0" lang="en-US" sz="2400" spc="-1" strike="noStrike">
                <a:solidFill>
                  <a:srgbClr val="000000"/>
                </a:solidFill>
                <a:latin typeface="Frutiger LT Std 45 Ligh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(NSW DET Professional Learning and Leadership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Frutiger LT Std 45 Light"/>
              </a:rPr>
              <a:t>Development Directorate 2007)</a:t>
            </a:r>
            <a:endParaRPr b="0" lang="en-US" sz="16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Frutiger LT Std 45 Light"/>
              </a:rPr>
              <a:t>Characteristics of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integrated – part of normal teaching practic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flective – alternating between implementation and critical reflection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flexible – methods, data and interpretation are refined in the light of understanding gained during the learning proces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active – designed to generate change in small step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Frutiger LT Std 45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Frutiger LT Std 45 Light"/>
              </a:rPr>
              <a:t>relevant – meets the needs of teachers and students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utiger LT Std 45 Light"/>
            </a:endParaRPr>
          </a:p>
          <a:p>
            <a:pPr marL="31212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Frutiger LT Std 45 Light"/>
              </a:rPr>
              <a:t>(NSW DET PL&amp;LD 2007)</a:t>
            </a:r>
            <a:endParaRPr b="0" lang="en-US" sz="14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ction Learning Cycle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utiger LT Std 45 Light"/>
              </a:rPr>
              <a:t>Action Learning Spiral</a:t>
            </a:r>
            <a:endParaRPr b="0" lang="en-US" sz="44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-360" y="17524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71840" y="1357200"/>
            <a:ext cx="36622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utiger LT Std 45 Light"/>
              </a:rPr>
              <a:t>Collaborative Action learning</a:t>
            </a:r>
            <a:endParaRPr b="0" lang="en-US" sz="3600" spc="-1" strike="noStrike">
              <a:solidFill>
                <a:srgbClr val="000000"/>
              </a:solidFill>
              <a:latin typeface="Frutiger LT Std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316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Another way to understand collaborativ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action learning is to look at the concepts in its title: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requires ACTION 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requires learning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utiger LT Std 45 Light"/>
              </a:rPr>
              <a:t>It is a COLLABORATIVE venture</a:t>
            </a:r>
            <a:endParaRPr b="0" lang="en-US" sz="2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4200" y="24285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000000"/>
                </a:solidFill>
                <a:latin typeface="Frutiger LT Std 45 Light"/>
              </a:rPr>
              <a:t>Phases in an Action Learning Project</a:t>
            </a:r>
            <a:endParaRPr b="0" lang="en-US" sz="4800" spc="-1" strike="noStrike">
              <a:solidFill>
                <a:srgbClr val="000000"/>
              </a:solidFill>
              <a:latin typeface="Frutiger LT Std 45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7:35:49Z</dcterms:created>
  <dc:creator>DET</dc:creator>
  <dc:description/>
  <dc:language>en-US</dc:language>
  <cp:lastModifiedBy>det</cp:lastModifiedBy>
  <dcterms:modified xsi:type="dcterms:W3CDTF">2009-05-03T22:30:31Z</dcterms:modified>
  <cp:revision>62</cp:revision>
  <dc:subject/>
  <dc:title>Finding a starting point for your research</dc:title>
</cp:coreProperties>
</file>